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FE9-0346-4309-BCE5-78E97770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078-06D0-402D-858D-8F5B70E7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FDE-6397-424A-B1E2-37763A86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8BD-7B85-4026-9CD0-12E4D1F1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BC81-8773-4770-93DC-E4F37228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DC20-6812-448C-8352-9AFD411F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886E-E865-4A07-922B-2E600630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14F5-326A-439F-A5A2-22AA40D5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E0C0-C6F5-4A4B-9F49-B5F09214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C11C-8AD9-42DF-8333-E706AD25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432C-8621-4C30-B84F-56470A8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DF9-8159-4460-B80D-55EAA157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B803-1CBF-481C-BE80-82AD4F1B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31B3-81D0-4428-A5B8-E777D04D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A4BD-DF86-440F-AE78-FBF77F3F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94FE-FD4C-4D05-AE55-C3839D3B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D95D-9453-4805-B31C-0D42A4A7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F446F-A945-4D58-A296-0A8B0ECB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6AD3-DC27-4795-ADAA-1A188DAA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57CD8-EF24-4007-84B1-48F42364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D24C-EB88-4812-AE09-B5D035FA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C8C2-E565-47A4-B53D-48F232FC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602-9BD7-410F-9D6E-C292A02D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CC5D-1675-4632-A118-1CE1DDFD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16130-4843-4069-8513-DB11A631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F16A-419E-4E21-9107-0A0F3951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40E1-9D61-4679-BC38-53E0623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DCE5A-7066-4640-AB6A-F95568A2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11019-3AC2-459C-B069-42671242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E3BCA-20B4-4FC6-BAFA-4A8E9089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F8136-F0B1-4E3C-B969-C4924FA2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EC25F-51A6-40D9-B8ED-7CEAC378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86B3-5221-46AF-B97D-70C6B7CF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CB0-FBB6-45D2-B352-859712C1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C2B14-670F-474A-BFC1-A88746A3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3D658-DCE9-4EB1-8714-081529D0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77389-DCAE-463C-8910-02CF26F3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CDAB3-A952-49A7-AC95-B2053FA1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4E1C7-FCF8-4F40-8D25-C5EDC9C3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6C647-92A5-4B80-8CAC-D90F3ABE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1C397-D35C-4895-8669-7CE1010B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13BA3-AFC3-4493-B963-593C627C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B4D5B-E318-41E7-9946-0C00E0CB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740-D0C4-41B5-9239-86437BF6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44B-275C-4C1B-82D2-D2528738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031-1917-4BE8-A3D4-B2807A8B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8EA-B377-40A5-B69F-5878F04C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B01-163F-464B-8BFD-63BDC1B5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E5A4-1C4C-426C-9D64-7EB606FAD2E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33B5-6912-45CB-A050-189149C3C2C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98D0-4ABA-45DB-A717-E2D9372E12E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8C73-BC2A-4215-B661-4FC044B6983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D471-C785-4F0D-A88F-B7E4DD3832C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1916280"/>
            <a:ext cx="7200720" cy="23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е обеспечение педагогической аттестации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мы и процедуры аттестации педагогических кадров Республики Татарстан в 2014 году</a:t>
            </a:r>
            <a:br>
              <a:rPr sz="2800"/>
            </a:br>
            <a:r>
              <a:rPr b="0" lang="ru-RU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7272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Министерство образования и науки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Скругленный прямоугольник 15"/>
          <p:cNvSpPr/>
          <p:nvPr/>
        </p:nvSpPr>
        <p:spPr>
          <a:xfrm>
            <a:off x="3780000" y="4208400"/>
            <a:ext cx="5040000" cy="213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оллаж2"/>
          <p:cNvPicPr/>
          <p:nvPr/>
        </p:nvPicPr>
        <p:blipFill>
          <a:blip r:embed="rId1"/>
          <a:stretch/>
        </p:blipFill>
        <p:spPr>
          <a:xfrm>
            <a:off x="395280" y="3857760"/>
            <a:ext cx="8462880" cy="27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Герб Республики Татарстан"/>
          <p:cNvPicPr/>
          <p:nvPr/>
        </p:nvPicPr>
        <p:blipFill>
          <a:blip r:embed="rId2"/>
          <a:stretch/>
        </p:blipFill>
        <p:spPr>
          <a:xfrm>
            <a:off x="324000" y="255600"/>
            <a:ext cx="15112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692B-DF06-4CA3-A32A-BB2DE9412B8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208080" y="13644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Методика  оценки квалиф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валификация- совокупнос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6 основных компетент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бласти личностны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в   постановке   целей   и  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мотивировании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разработке программы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и принятии педагоги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  в     обеспечении     информ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сновы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рганизации педагогической деятельност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Заголовок 2"/>
          <p:cNvSpPr/>
          <p:nvPr/>
        </p:nvSpPr>
        <p:spPr>
          <a:xfrm>
            <a:off x="476280" y="1047600"/>
            <a:ext cx="8516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02CC-6B46-4DD1-AE56-217A871E72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324000" y="260280"/>
            <a:ext cx="8461080" cy="600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2"/>
          <p:cNvSpPr/>
          <p:nvPr/>
        </p:nvSpPr>
        <p:spPr>
          <a:xfrm>
            <a:off x="395280" y="76500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ттестация для присвоения квалификационных категорий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198900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оди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заявлению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едагогических работников  до истечения срока  имеющейся квалификационной категории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осрочная аттестация  разрешается через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 год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сле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ыдущей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Процедура аттестации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экспертная 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853D-C327-479C-9283-02529C81B14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79280" y="189000"/>
            <a:ext cx="8605800" cy="629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 для присвоения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первой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табильные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своения обуч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разовате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-выявления развития у обучающихся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 научной (интеллектуальной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ворческой, физкультурно-спортив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личного вклада в повышение качества образ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овершенствования методов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ранслирования в педагог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оллективах опыта практически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воей профессионально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активного участия в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методических объединений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Заголовок 2"/>
          <p:cNvSpPr/>
          <p:nvPr/>
        </p:nvSpPr>
        <p:spPr>
          <a:xfrm>
            <a:off x="395280" y="404640"/>
            <a:ext cx="85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183C-74B6-42F7-878F-C596E7B23BD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324000" y="189000"/>
            <a:ext cx="8461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для присвоения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сше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наличие  первой катег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участие воспитаннико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сероссийских олимпиад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нкурсах, соревнованиях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транслирования в педагогических коллекти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опыта практически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ктивное распространение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нновационного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 повышению  качества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0DD3-70AA-4CB0-9A78-1FC931E1E3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293760" y="174600"/>
            <a:ext cx="8461440" cy="654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UI Semibold"/>
              </a:rPr>
              <a:t>Работник </a:t>
            </a:r>
            <a:r>
              <a:rPr b="1" lang="ru-RU" sz="2400" spc="-1" strike="noStrike">
                <a:solidFill>
                  <a:srgbClr val="0000ff"/>
                </a:solidFill>
                <a:latin typeface="Segoe UI Semibold"/>
              </a:rPr>
              <a:t>подает в комиссию лич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аявление по установлен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правка о профессиональном тестиро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работник проходи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ранее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Копия аттестационного листа или друг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окумента по итогам предыдуще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ля 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отовя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ы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 аттестуемого работник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Экспертное заключение, эксперт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еречень документов при аттестации на категорию (первую  или высшую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0294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9900ff"/>
                </a:solidFill>
                <a:uFillTx/>
                <a:latin typeface="Calibri"/>
              </a:rPr>
              <a:t>Тестирование проводится:</a:t>
            </a:r>
            <a:br>
              <a:rPr sz="3100"/>
            </a:br>
            <a:br>
              <a:rPr sz="28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в формате 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ЕГЭ, ЕРЭ </a:t>
            </a: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 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в РЦМКО (8843)223-09-17)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компьютерное тестирование</a:t>
            </a: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педагогов и директоров – в системе «Электронное образование» (руководство  по тестированию на сайте МО и Н РТ)</a:t>
            </a:r>
            <a:br>
              <a:rPr sz="2600"/>
            </a:br>
            <a:br>
              <a:rPr sz="2600"/>
            </a:br>
            <a:br>
              <a:rPr sz="28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67690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Зачетный миниму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76360" y="1989000"/>
            <a:ext cx="6696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На первую категорию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70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 бал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На высшую категорию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80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 бал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 нехватке - 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балла </a:t>
            </a: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авляются автоматичес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6E90-5BE3-43D8-8546-E37166DC95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80B2-3FD4-4E84-B33B-15BC06BD934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РГАНИЗАЦИЯ ЗАЯВИ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2014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539640" y="98100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матизированная информационная система электронного документооборота «Аттестация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Электронном образ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астники взаимоотношений в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ИС «АТТЕСТАЦИЯ» (по уровням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5520" y="1557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63440" y="3957480"/>
            <a:ext cx="52578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ОТВЕТСТВЕННЫЙ ЗА АТТЕСТАЦИЮ В РАЙ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(СПЕЦИАЛИСТ, МЕТОДИСТ ОТДЕЛА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136440" y="2860560"/>
            <a:ext cx="5256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ОТВЕТСТВЕННЫЙ ЗА АТТЕСТАЦИЮ В 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(ЗАМ. ДИРЕКТ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 flipH="1">
            <a:off x="6734160" y="3068640"/>
            <a:ext cx="2160720" cy="8625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МОиН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179280" y="5589720"/>
            <a:ext cx="5256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АТТЕСТАЦИОННАЯ КОМИС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(МОиН 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-360" y="3141720"/>
            <a:ext cx="392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В статье </a:t>
            </a:r>
            <a:r>
              <a:rPr b="1" lang="ru-RU" sz="2200" spc="-1" strike="noStrike">
                <a:solidFill>
                  <a:srgbClr val="0d29b3"/>
                </a:solidFill>
                <a:latin typeface="Arial Narrow"/>
              </a:rPr>
              <a:t>«Строительство справедливости. Социальная политика для России»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В.В. Путин обратил внимание на необходимость выхода на </a:t>
            </a:r>
            <a:r>
              <a:rPr b="1" lang="ru-RU" sz="2200" spc="-1" strike="noStrike">
                <a:solidFill>
                  <a:srgbClr val="990000"/>
                </a:solidFill>
                <a:latin typeface="Arial Narrow"/>
              </a:rPr>
              <a:t>ЭФФЕКТИВНЫЙ КОНТРАКТ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с педагогическими работник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http://phapluattp2.vcmedia.vn/Rpg7DiB2SyW22i2esZK04OmnfDjccc/Image/2012/03/24/putinl_eb23d.jpg"/>
          <p:cNvPicPr/>
          <p:nvPr/>
        </p:nvPicPr>
        <p:blipFill>
          <a:blip r:embed="rId1"/>
          <a:stretch/>
        </p:blipFill>
        <p:spPr>
          <a:xfrm>
            <a:off x="4140360" y="1197000"/>
            <a:ext cx="455760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3" name="Picture 18" descr="http://belnovosti.ru/files/styles/thumbnail/public/news/13043_26547.jpg?itok=3v7uS_cs"/>
          <p:cNvPicPr/>
          <p:nvPr/>
        </p:nvPicPr>
        <p:blipFill>
          <a:blip r:embed="rId2"/>
          <a:stretch/>
        </p:blipFill>
        <p:spPr>
          <a:xfrm rot="19682400">
            <a:off x="6455880" y="4308120"/>
            <a:ext cx="2433600" cy="16542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4" name="Picture 20" descr="http://www.edinros-arz.ru/files/photo/news/news_43_1_1.jpg"/>
          <p:cNvPicPr/>
          <p:nvPr/>
        </p:nvPicPr>
        <p:blipFill>
          <a:blip r:embed="rId3"/>
          <a:srcRect l="0" t="0" r="30975" b="51797"/>
          <a:stretch/>
        </p:blipFill>
        <p:spPr>
          <a:xfrm>
            <a:off x="4140360" y="4581360"/>
            <a:ext cx="3024000" cy="15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880"/>
            <a:ext cx="78487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Эффективный контрак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Прямоугольник 15"/>
          <p:cNvSpPr/>
          <p:nvPr/>
        </p:nvSpPr>
        <p:spPr>
          <a:xfrm>
            <a:off x="324000" y="98100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дним из ключевых направлений государственной политики является </a:t>
            </a:r>
            <a:r>
              <a:rPr b="1" lang="ru-RU" sz="2200" spc="-1" strike="noStrike">
                <a:solidFill>
                  <a:srgbClr val="990000"/>
                </a:solidFill>
                <a:latin typeface="Arial Narrow"/>
              </a:rPr>
              <a:t>развитие педагогического кадрового потенци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ИС «АТТЕСТАЦИЯ»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154080" y="1533600"/>
            <a:ext cx="5257800" cy="17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ходит в свой кабинет в Электронном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через логин, паро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 октября каждого текущего года начало аттестационных процед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120600" y="4862520"/>
            <a:ext cx="52563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Отслеживает (при необходимости) на какой стадии находится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осле направления дело экспертам, доступ к личному делу должен быть закр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108000" y="3308400"/>
            <a:ext cx="5256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ентябре месяце каждого текущего года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заполняет заявление (электронная форма – пересылается в личное дело аттестуемого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Заявка на тест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 flipH="1">
            <a:off x="6732000" y="3235320"/>
            <a:ext cx="2160360" cy="1511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ПЕДА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>
            <a:off x="5376960" y="52293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ИС «АТТЕСТАЦИЯ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179280" y="1341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формляет лист самооценки (автоматически)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2015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Заполняет электронную форму аттестационного 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8"/>
          <p:cNvSpPr/>
          <p:nvPr/>
        </p:nvSpPr>
        <p:spPr>
          <a:xfrm flipH="1">
            <a:off x="5364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141120" y="3078000"/>
            <a:ext cx="5330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кладывает электронную форму (скан) подтверждающи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 flipH="1">
            <a:off x="6732000" y="3068640"/>
            <a:ext cx="2160360" cy="13262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олняет электронную форму карты результа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С «АТТЕСТАЦИЯ»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179280" y="1341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  аттестационное дело (заявле-ние аттестуемого уч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65040" y="4397400"/>
            <a:ext cx="525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Аттестационного листа не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8"/>
          <p:cNvSpPr/>
          <p:nvPr/>
        </p:nvSpPr>
        <p:spPr>
          <a:xfrm flipH="1">
            <a:off x="5398920" y="2627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 flipH="1">
            <a:off x="6732000" y="3068640"/>
            <a:ext cx="2160360" cy="16311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Заместитель директора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252360" y="5157720"/>
            <a:ext cx="5254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яет аттестационное дело, в «Отдел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5398920" y="455940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179280" y="2421000"/>
            <a:ext cx="525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Прикладывает электронную фор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79280" y="2421000"/>
            <a:ext cx="525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,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то подлежит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141120" y="328464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ает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электронную форму карты результативност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то не подлежит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ИС «АТТЕСТАЦИЯ»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154080" y="1533600"/>
            <a:ext cx="5257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ает график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ертов (направляет экспертов к учителю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120600" y="4862520"/>
            <a:ext cx="5256360" cy="18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еряет документы. Определяет экспертов. Открывает доступ к документам аттестумых экспер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яет дело в аттестационную комис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3308400"/>
            <a:ext cx="525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 документы на соответствие требованиям к катег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 flipH="1">
            <a:off x="6804000" y="3357720"/>
            <a:ext cx="2160720" cy="1008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Специалист отдела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5376960" y="52293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С «АТТЕСТАЦИЯ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79280" y="1484280"/>
            <a:ext cx="525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держивает АС в актуальном состоя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Обеспечивает организацию  работы экспертных комиссий 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8"/>
          <p:cNvSpPr/>
          <p:nvPr/>
        </p:nvSpPr>
        <p:spPr>
          <a:xfrm flipH="1">
            <a:off x="5364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 flipH="1">
            <a:off x="6734160" y="3068640"/>
            <a:ext cx="2160720" cy="1313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Электронное образование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179280" y="5589720"/>
            <a:ext cx="5256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т в системе  аттестационные документы к заседанию АК МОиН РТ, проводит мониторинг по итогам проведения аттес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79280" y="2565360"/>
            <a:ext cx="5256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вает научно-методическое сопровождение аттес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8"/>
          <p:cNvSpPr/>
          <p:nvPr/>
        </p:nvSpPr>
        <p:spPr>
          <a:xfrm>
            <a:off x="5364000" y="393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179280" y="364500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Проверяет документы на соответствие требованиям Н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АС «АТТЕСТАЦИЯ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155520" y="1557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ит заседание 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333360" y="407664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щает документы по итогам  аттестации на своем «сай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5364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136440" y="2860560"/>
            <a:ext cx="5256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ПРИНИМАЕТ РЕШЕНИЕ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КАЛЬНЫЙ 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 flipH="1">
            <a:off x="6736680" y="3068640"/>
            <a:ext cx="2160360" cy="147240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Аттестацион-ная комиссия МОиН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79280" y="5300640"/>
            <a:ext cx="5256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Дает указание по завершению аттестационного дела и передачи дела в арх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8"/>
          <p:cNvSpPr/>
          <p:nvPr/>
        </p:nvSpPr>
        <p:spPr>
          <a:xfrm>
            <a:off x="543564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Этапы прохождения документ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заявления. Заявка на тестирова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аттестационного дела (статус «формирование аттест.дела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атт.дела в отдел образования и его проверка(статус «аттестационное дело сформировано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дела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атус «аттестац.дело ожидает подтверждения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ие дел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инятие решения (статус «аттест.дело рассмотрено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распорядительного акта (статус « соответствует /не соответствует «заявленной» категори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7AC7-0076-4433-A10D-B01071E9ED4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РГАНИЗАЦИЯ ЗАЯВИТЕЛЬ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. Предварительный этап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рохождение работник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офесс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естирования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компьютерного или в формате ЕГЭ) С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одач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явления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на аттестацию (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то прошел в 2010 году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одготовка для экспертов листа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. Подача документов через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Издание приказа МО и Н РТ о про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Проведе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из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по месту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уемого педагог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Заполнение экспертных заключений в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6. Проведение заседания АК МОиН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Изда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каза МОиН РТ об итогах аттест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оформление и выдача аттестационных листов отмен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BD75-D17A-4BC9-9538-84811CFA22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250920" y="162000"/>
            <a:ext cx="806616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лгоритм проведения эксперти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определяют состав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экспертных групп для утверждения приказ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МО и Н Р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Независимые эксперты проводят эксперти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профессиональных результатов, анализиру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уроки, сопоставляют  свои выводы с лист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самооценки аттестуемого  педагога, готовят эксперт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заключ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3. 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контролируют оформл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экспертного заключения  в ИС передают коп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в МОиН РТ для опла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ff"/>
                </a:solidFill>
                <a:latin typeface="Times New Roman"/>
              </a:rPr>
              <a:t>На 2015 год включить в бюджет оплату экспер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2A28-FAAF-4CD0-905C-772354FF53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50920" y="333360"/>
            <a:ext cx="8497800" cy="619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зависимые эксперты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 направля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 педагогическим работник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при повторной аттест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и наличии у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достижений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на профессиональны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конкурсах, предметных олимпиадах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государственных, отраслевых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награ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К руководящим работникам, аттестуем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по педагогическим должностям </a:t>
            </a:r>
            <a:r>
              <a:rPr b="1" lang="ru-RU" sz="3000" spc="-1" strike="noStrike">
                <a:solidFill>
                  <a:srgbClr val="ff00ff"/>
                </a:solidFill>
                <a:latin typeface="Times New Roman"/>
              </a:rPr>
              <a:t>,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независим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эксперты направляются обязательно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u-RU" sz="3600" spc="-1" strike="noStrike">
                <a:solidFill>
                  <a:srgbClr val="0f6fc6"/>
                </a:solidFill>
                <a:latin typeface="Times New Roman"/>
              </a:rPr>
              <a:t>Федеральный </a:t>
            </a:r>
            <a:r>
              <a:rPr b="0" lang="ru-RU" sz="3200" spc="-1" strike="noStrike">
                <a:solidFill>
                  <a:srgbClr val="0f6fc6"/>
                </a:solidFill>
                <a:latin typeface="Times New Roman"/>
              </a:rPr>
              <a:t>Закон</a:t>
            </a:r>
            <a:br>
              <a:rPr sz="3200"/>
            </a:br>
            <a:r>
              <a:rPr b="1" lang="ru-RU" sz="40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«Об образовании в Российской Федерации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2707920"/>
            <a:ext cx="8353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тья 49. Аттестация педагогических работнико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CA5E-A79F-405E-8BFB-923B4D7ED8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10BA-9FF0-4711-9CA4-0E04B0B6A36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2640" y="4489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Важно!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169992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Constantia"/>
              </a:rPr>
              <a:t>Для </a:t>
            </a:r>
            <a:r>
              <a:rPr b="1" lang="ru-RU" sz="2600" spc="-1" strike="noStrike">
                <a:solidFill>
                  <a:srgbClr val="ff3300"/>
                </a:solidFill>
                <a:latin typeface="Constantia"/>
              </a:rPr>
              <a:t>высшей </a:t>
            </a:r>
            <a:r>
              <a:rPr b="1" lang="ru-RU" sz="2600" spc="-1" strike="noStrike">
                <a:solidFill>
                  <a:srgbClr val="003399"/>
                </a:solidFill>
                <a:latin typeface="Constantia"/>
              </a:rPr>
              <a:t>категории  дополнительно проводится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экспертиза инновационных разработок, если отсутствует инновационная деятельность аттестуемы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в рамках методических конкурсов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научно</a:t>
            </a: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–практических</a:t>
            </a: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конференц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республиканского,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федерального,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международного уров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6767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еречень документов необходимы для ИС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1628640"/>
            <a:ext cx="76327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Constantia"/>
              </a:rPr>
              <a:t>Заявлени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Аттестационный лист старый для высше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Карта результативности профессиональной деятельности для все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Заключение экспертиз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Удостоверение о курсах , заверенны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Рецензия или отзыв на  авторские разработки ( или  документ об участии в методическом конкурсе республиканского уровня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Подтверждающий документ об участии детей в олимпиадах, конкурсах, соревнованиях   всероссийского уровня или в региональном этапе данных мероприят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AAE7-9E95-4D93-8E28-CDCD9939AB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250920" y="260280"/>
            <a:ext cx="7921440" cy="630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каз Министерства образ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науки Республики Татарст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«О проведении аттестаци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образовательных уч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Республики Татарстан  в 2014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г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468360" y="260280"/>
            <a:ext cx="794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  <a:ea typeface="Andalus"/>
              </a:rPr>
              <a:t>Региональные норматив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95B0-A79B-4567-8395-A26CEEDA3E2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alibri"/>
              </a:rPr>
              <a:t>НОРМАТИВНЫЕ АКТЫ МО  и  Н  РТ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О и Н РТ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№ 4231/14 от 25.07.2014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 «Об утверждении Административного регламента по проведению аттестации педагогических  работников  Республики Татарстан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О и Н РТ  «Об утвержде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 об экспертной комиссии по муниципальному образованию Республики Татарстан»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FD2F-094F-46AE-A873-7032EDDB5D9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Calibri"/>
              </a:rPr>
              <a:t>НОРМАТИВНЫЕ АКТЫ МО  и  Н  РТ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каз МО и Н РТ №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3669/14 от 14 июля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014 г. «Об утверждении Положения о формах и процедурах аттестации педагогических работников РТ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16F3-2411-45BB-8EC6-31E08A54D13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250920" y="476280"/>
            <a:ext cx="8642160" cy="597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ГИОНАЛЬНЫЕ  НОРМАТИВНЫЕ  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аслевое Соглашение между МО и Н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 Татарским рескомом профсоюза работ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родного образования и науки на 2014-2016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иложение №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« Права и льготы работников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Республики Татарс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и подготовке и проведении аттестации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Отраслевое соглашение  с  профсоюзом работников образования</a:t>
            </a: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141264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основания дл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ереноса сроков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ттестации на подтверждение СЗД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мен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прощенных форм экспертизы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 наличии заслуг, отраслевых и государственных наград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хранение  квалификационных категори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 разных должностях (учебных предметах 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6AA9-B3FB-4B52-954B-030D89F5DB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E095-B219-475A-95A4-DEA48CDCCB5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81378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                     </a:t>
            </a:r>
            <a:br>
              <a:rPr sz="2500"/>
            </a:br>
            <a:r>
              <a:rPr b="1" lang="ru-RU" sz="2500" spc="-1" strike="noStrike">
                <a:solidFill>
                  <a:srgbClr val="ff3300"/>
                </a:solidFill>
                <a:latin typeface="Times New Roman"/>
              </a:rPr>
              <a:t>ЗАЯВИТЕЛЬНАЯ  АТТЕСТАЦИЯ НА  ПЕРВУЮ  И ВЫСШУЮ  КАТЕГОРИЮ в 2014 г.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Constantia"/>
              </a:rPr>
              <a:t>Октябрь 2014 </a:t>
            </a:r>
            <a:r>
              <a:rPr b="1" lang="ru-RU" sz="2900" spc="-1" strike="noStrike">
                <a:solidFill>
                  <a:srgbClr val="000000"/>
                </a:solidFill>
                <a:latin typeface="Constantia"/>
              </a:rPr>
              <a:t>г.</a:t>
            </a: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нтрализованный прием в ИС заявлений на аттестацию работников, у которых срок действия квалификационных категорий заканчивается в 2015 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Ноябрь </a:t>
            </a:r>
            <a:r>
              <a:rPr b="1" lang="ru-RU" sz="2900" spc="-1" strike="noStrike">
                <a:solidFill>
                  <a:srgbClr val="0000ff"/>
                </a:solidFill>
                <a:latin typeface="Constantia"/>
              </a:rPr>
              <a:t>2014 г</a:t>
            </a:r>
            <a:r>
              <a:rPr b="0" lang="ru-RU" sz="2900" spc="-1" strike="noStrike">
                <a:solidFill>
                  <a:srgbClr val="0000ff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работа экспертных груп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Декабрь 2014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г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направление договоров на экспертов в МО и Н Р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6E88-2D80-4F75-90DA-010DEF744A1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ttp//www.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on.tatar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Раздел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«Педагогическая аттестация»</a:t>
            </a: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Тел. 294-95-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68360" y="260280"/>
            <a:ext cx="794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айт Министерства образования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 науки Республики Татар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Объект 3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32176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Calibri"/>
              </a:rPr>
              <a:t>Основополагающие  документы для проведения аттест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Объект 3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962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6389-51C2-404B-9C53-9D827D147F7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900000" y="189000"/>
            <a:ext cx="7272360" cy="605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МО и Н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07 апреля 2014 г. №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«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 порядке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едагогических 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рганизаций, осуществл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бразовательную  деятельность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24000" y="49536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Федеральные документы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87B8-D637-46D6-AF7F-7207D1EE5E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179280" y="18432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 Министерства здравоохра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 социального развития   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26 августа 2010 г.  №761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Об утверждении Еди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го справ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уководителей, специалистов и служащ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аздел «Квалификационные характерис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должностей работников образования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60280"/>
            <a:ext cx="81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04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50560" y="1341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Письмо Департамента общего образовани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МО и Н РФ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от 27.02.2012 г.№ 03-109 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«О повышении квалификации и аттестации педагогических работников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1B31-81FB-494A-94B0-2BA8AE89C5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79280" y="260280"/>
            <a:ext cx="864072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ва вида аттестации для педаг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1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 целью под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занимаемой дол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 уровне 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2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ля установления соответ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ровня квалификации треб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2"/>
          <p:cNvSpPr/>
          <p:nvPr/>
        </p:nvSpPr>
        <p:spPr>
          <a:xfrm>
            <a:off x="395280" y="476280"/>
            <a:ext cx="8516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Изменения в порядке 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01:08Z</dcterms:created>
  <dc:creator>admin</dc:creator>
  <dc:description/>
  <dc:language>en-US</dc:language>
  <cp:lastModifiedBy>Admin</cp:lastModifiedBy>
  <cp:lastPrinted>2014-08-27T17:24:32Z</cp:lastPrinted>
  <dcterms:modified xsi:type="dcterms:W3CDTF">2014-09-15T09:57:26Z</dcterms:modified>
  <cp:revision>243</cp:revision>
  <dc:subject/>
  <dc:title>Слайд 1</dc:title>
</cp:coreProperties>
</file>